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961-7271-4ABC-886D-E2001890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D2B-CCC9-477A-8EA0-3DC5149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3C9-492B-4D95-B0F9-5EE0106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E10-11DA-447B-B9E6-5073B8E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00F-F07F-4CCB-864D-1A3EE959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55E1-CF70-45A2-8611-38CF030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7ED4-C6A1-458D-9E9E-7FCCCD95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70EA-0E6F-43F4-8052-5E6E077D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BB02-1046-4AE6-A4C9-A0512FF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D31F-7B35-4385-98AB-50CAC02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5447-65FE-4661-ABC1-B52A22B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D8D-62AB-4105-80CE-865F554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FCA-0092-4A3C-8B26-1B684FE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C9EF-725D-4DA3-B297-2CC4E99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F1C-B0BE-4660-931F-D39AED4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59EF-2368-4B5E-B4C5-89D8BA66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B2B6-D97F-4A6B-8B1D-425E2903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66F-5EA1-4156-ADD2-F135820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DEC-2D68-4952-8338-4B12B6F6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40D-BA74-46E1-9A81-7E84BEB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C12-F4AF-42D2-8455-27C959A0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900-728B-4C9C-9D28-8A47768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B91-3DAB-4596-B947-7AF103F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96F-6738-41BC-877E-2DDDE86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8D88-2D43-4F10-9E99-8C7D17FB6C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D8B9-AE95-4917-8D5F-041DF99603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doriani@springboro.org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lcome to Third Grade!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 Oriani’s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m 2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 a big jum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pendent Reading (does not come home unless our schedule is tigh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swering Questions – please look at the answering questions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ho-what-where-when-why circle, Answering A Question, and 2,3,4 part Question Answe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ARIZING!! (refer to summary p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CABULA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343400" y="4952880"/>
            <a:ext cx="2743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/Writing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ension of Reading and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back wall to walk through with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62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ized Spelling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has the same pre-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their missed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ir own words from prior missed spelling test words or they pick words that match our weekly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ir SPELLING WORDS for proper sp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12193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ekly Skill Packet Done At Scho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/Language Arts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mar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lling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/Social Studies Weekly Prompt answered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e every Thursday of the wee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review toge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Grammar quiz and Spelling 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4 Detai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ing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gin multi-paragraph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y Writing again is a big concept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401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–practice adding and subtracting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Reference Boo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in the beginning, but picks up b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ua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FACTS will be an important part of Math (if your student has mastered adding and subtracting begin multiplication AS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ok Club, Math Group, and One on One Tu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help better students knowledge of the concepts learned within class I will offer monthly Book Clubs as well as unit Math Grou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Group –Monday’s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ok Club – Thursday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n One tutoring Mon., Tues., Wed., and Thurs mornings 7:15-8:15 also Tues. and Wed. afternoons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sign up at anytime there is a session off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20 per child for EACH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do Book Club and Math Group it is $15 per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n One tutoring – if you notice a big struggle in any area - $30 per 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948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2733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Extension Group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hild LOVES Science I would like to start a Science Extension Gro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School – one day a wee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.00 a child each s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cts with students all over the world through the internet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tras Needed For Class That Should Be Here By Now?!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inch bi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nder divi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 of White Unlined Note 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oll of masking tape to hang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Subject Notebook – College Li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nte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 went home in the IMPORTANT PAPERS ENVE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interested in volunteering please make sure to fill out that form and I will be in tou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need to be finger printed – if you were last year that is still g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 PAPERS DUE September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o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rade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Ju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Expecta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cipation vs.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Home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penden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a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y Erase Mar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uorescent Note Cards for 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papers/Magazines with Grap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ch T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anent Mar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ging File Fol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ing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feel free to contact me at ANY ti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available through email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oriani@springboro.o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heck throughout the day and every night before I go to be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rned and want a conference anytime throughout the year, again please contact me and we can set a date and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Goal Togeth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here to work together for the success of your child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, so let’s have a great year together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12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missal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iders – Walkers – Car Ri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 Riders – Parents will have to come in and pick up their chil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 Poolers need to send in n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iders may go home with other bus ri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s will be accepted through the office until 1:30 – NO LAT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ransportation information NEEDS to go through Jennifer Austin – not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ning Work Responsi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 the ? – Big Part is Explaining Work in Words – OAT requ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ily Geography +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ily Science +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ntastic Five +bi-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ce/Social Studies weekly writing prompt – OAT Requ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mmar Work – Please work at home on Nouns, Verbs, Adjective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homework is forgotten – the first and second time the student conferences with teac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time conferences with teacher and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time stays after school with the principal to make up the assignment that day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s over each qua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.T.A.R.S Bind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keep everyone organiz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look at the binder on your child’s de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s Is VERY different this y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otate on an A-B-C sched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 should be located in the S.T.A.R.S Bind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ay = 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Day = Gym – always wear gym sh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Day = Mus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Cha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s to represent behavio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s to be sig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Recognition Program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d to you in the bi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25:11Z</dcterms:created>
  <dc:creator>doriani</dc:creator>
  <dc:description/>
  <dc:language>en-US</dc:language>
  <cp:lastModifiedBy>doriani</cp:lastModifiedBy>
  <dcterms:modified xsi:type="dcterms:W3CDTF">2009-08-21T19:26:20Z</dcterms:modified>
  <cp:revision>17</cp:revision>
  <dc:subject/>
  <dc:title>Welcome to Third Grade!</dc:title>
</cp:coreProperties>
</file>